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8BAA-6527-4FAA-BFF0-195B90D5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7074-7C8B-4EFF-A866-CDABBDEC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A94B-CEC6-444E-8C3C-95B0007BF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7FF4-A972-4D60-8393-608203DC7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4270-C59E-4DB7-9989-7EB99856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E24C-EF4B-4D1D-A864-502F6CC7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508E-F86D-45B4-BCC0-6DC33003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D0BD-CD08-42EC-A56E-7617F6D8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0FE2-6008-4F87-B445-2247189E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587C-8AC9-4C5E-B839-15AE9544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C7DE-49C4-431B-B50B-080F127F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A5B2-F192-4182-8B88-146B47E6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CC9F-1D16-4272-9FE4-C52F8997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EBF4-3B0C-4BCF-94B0-2BF644B9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734B-2080-424C-98AE-3204CE03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F267-B4BB-4363-B56C-2FBD30D3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223B-3846-470A-A462-EA56F1A9D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5A20-3B07-4063-A613-0D4521B0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EB1C-A10B-40EE-A1CE-21B2C8EC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5165-7D94-4A99-BC42-5F9CCB89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5607-D745-4DE7-A807-57BBC2C1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2E6C-F94B-4C95-945B-75F97325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47BD-6484-449D-A485-7DA67E53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F560-4453-4345-B136-E37AA531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7FBE-2219-476E-AD73-857AE4EBFA7C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093F-20B3-40A3-9665-FFAA33907633}" type="slidenum">
              <a:rPr b="0" lang="zh-TW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3280" y="1676160"/>
            <a:ext cx="66247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MS Introd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32000" y="522936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006/09/25 by Eri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dd/Configure a si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1844640"/>
            <a:ext cx="7128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How to 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e the cursor on the top of menu “add a site” or go to the “Add” button direc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e the setting of Site as below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5640" y="3313080"/>
            <a:ext cx="4649760" cy="3068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621400" y="3254400"/>
            <a:ext cx="232416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Tahoma"/>
              </a:rPr>
              <a:t>Settings of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te: 790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del: 4ch DV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rt: 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ername: 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assword: 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69760" y="5357880"/>
            <a:ext cx="383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#Key in the data as the above and click “OK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#You can add a new site as you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3640" y="3645000"/>
            <a:ext cx="4392720" cy="143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s/Connections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1844640"/>
            <a:ext cx="7128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How to 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name/Password: default value is “user/4321; admin/1234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x. Connec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9094: 3 connections (user); 1 connections (admi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9100: 3 connections (user); 1 connections (admi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920X: 5 connections (user); 1 connections (admi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9216: 5 connections (user); 1 connections (admi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384880" y="4402080"/>
            <a:ext cx="3435120" cy="2266920"/>
          </a:xfrm>
          <a:prstGeom prst="rect">
            <a:avLst/>
          </a:prstGeom>
          <a:ln w="0">
            <a:noFill/>
          </a:ln>
        </p:spPr>
      </p:pic>
      <p:grpSp>
        <p:nvGrpSpPr>
          <p:cNvPr id="146" name=""/>
          <p:cNvGrpSpPr/>
          <p:nvPr/>
        </p:nvGrpSpPr>
        <p:grpSpPr>
          <a:xfrm>
            <a:off x="1332000" y="4594320"/>
            <a:ext cx="2390760" cy="1647000"/>
            <a:chOff x="1332000" y="4594320"/>
            <a:chExt cx="2390760" cy="1647000"/>
          </a:xfrm>
        </p:grpSpPr>
        <p:sp>
          <p:nvSpPr>
            <p:cNvPr id="147" name=""/>
            <p:cNvSpPr/>
            <p:nvPr/>
          </p:nvSpPr>
          <p:spPr>
            <a:xfrm>
              <a:off x="1398600" y="4594320"/>
              <a:ext cx="232416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Tahoma"/>
                </a:rPr>
                <a:t>Settings of S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ite: 7909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odel: 4ch DV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ort: 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Username: us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assword: ***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32000" y="5720040"/>
              <a:ext cx="1873080" cy="502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 flipV="1">
            <a:off x="3276720" y="5444640"/>
            <a:ext cx="453528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ive Moni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565600" y="4186080"/>
            <a:ext cx="3407040" cy="2556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580000" y="2095560"/>
            <a:ext cx="1235160" cy="198108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116000" y="1844640"/>
            <a:ext cx="504036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cc"/>
                </a:solidFill>
                <a:latin typeface="Arial"/>
              </a:rPr>
              <a:t>How to start “Live Monitor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Start”-&gt;”Programs”-&gt;”CMS”-&gt;”CM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Click the icon “LIVE” on the 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cc"/>
                </a:solidFill>
                <a:latin typeface="Arial"/>
              </a:rPr>
              <a:t>Drag&amp;D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cc"/>
                </a:solidFill>
                <a:latin typeface="Arial"/>
              </a:rPr>
              <a:t>Enable/Di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Green: enable (default: en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Gray: dis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cc"/>
                </a:solidFill>
                <a:latin typeface="Arial"/>
              </a:rPr>
              <a:t>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cc"/>
                </a:solidFill>
                <a:latin typeface="Arial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564000" y="4221000"/>
            <a:ext cx="130500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nstant Recor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148360" y="2781360"/>
            <a:ext cx="542880" cy="4665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116000" y="1844640"/>
            <a:ext cx="381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heck the “file pat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tart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Click the target channel( mark by yellow square line ) and move cursor to the top of “RECORD” and p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By using the “pull-down menu”, move to “Record” -&gt;“Start Recor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top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Go to pull-down menu to stop record ( “Record” -&gt; “Stop Record”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076720" y="4005360"/>
            <a:ext cx="366732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mote Play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213600" y="2060640"/>
            <a:ext cx="1919160" cy="1673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116000" y="1844640"/>
            <a:ext cx="46800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tar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tart Play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Press “OK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top Play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To stop remote playback by using “Live” on the top of pull-down me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619280" y="3933720"/>
            <a:ext cx="655164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ocal Play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659640" y="1916280"/>
            <a:ext cx="1919160" cy="1672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116000" y="1844640"/>
            <a:ext cx="496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cc"/>
                </a:solidFill>
                <a:latin typeface="Arial"/>
              </a:rPr>
              <a:t>Move cursor to the “DVR Player”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cc"/>
                </a:solidFill>
                <a:latin typeface="Arial"/>
              </a:rPr>
              <a:t>Choose the target *.drv file and double click that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042920" y="3032280"/>
            <a:ext cx="5329440" cy="35654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659640" y="3284640"/>
            <a:ext cx="576360" cy="288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931640" y="2421720"/>
            <a:ext cx="2015640" cy="215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528" y="20226"/>
                </a:moveTo>
                <a:arcTo wR="10800" hR="10800" stAng="7152977" swAng="3175569"/>
                <a:lnTo>
                  <a:pt x="10800" y="10800"/>
                </a:lnTo>
                <a:close/>
              </a:path>
              <a:path fill="none" w="21600" h="21600">
                <a:moveTo>
                  <a:pt x="5528" y="20226"/>
                </a:moveTo>
                <a:arcTo wR="10800" hR="10800" stAng="7152977" swAng="3175569"/>
              </a:path>
            </a:pathLst>
          </a:custGeom>
          <a:noFill/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mote Archi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116000" y="1844640"/>
            <a:ext cx="5832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elect radio button “Archiv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hoose a period ( start and end tim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lick “OK” and start to archive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47640" y="3205080"/>
            <a:ext cx="388944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napsho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1116000" y="1844640"/>
            <a:ext cx="583236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heck the “File path” for snapsh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lick “Snapshot” button ( w/ date/time in 2x2, 3x3 and 4x4 mod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File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B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JPG ( default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G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T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932360" y="3429000"/>
            <a:ext cx="345744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ome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651640" y="4235400"/>
            <a:ext cx="2641320" cy="1981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703600" y="4164120"/>
            <a:ext cx="1722240" cy="4921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258920" y="3876840"/>
            <a:ext cx="779400" cy="11188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116000" y="1844640"/>
            <a:ext cx="633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Browser based Dom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ome Control via DV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8" idx="0"/>
            <a:endCxn id="177" idx="0"/>
          </p:cNvCxnSpPr>
          <p:nvPr/>
        </p:nvCxnSpPr>
        <p:spPr>
          <a:xfrm flipH="1" rot="16200000">
            <a:off x="2463840" y="3062160"/>
            <a:ext cx="288000" cy="1916640"/>
          </a:xfrm>
          <a:prstGeom prst="bentConnector3">
            <a:avLst>
              <a:gd name="adj1" fmla="val -7947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6" idx="1"/>
          </p:cNvCxnSpPr>
          <p:nvPr/>
        </p:nvCxnSpPr>
        <p:spPr>
          <a:xfrm flipH="1" rot="16200000">
            <a:off x="4322520" y="3897720"/>
            <a:ext cx="570600" cy="208692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182" name=""/>
          <p:cNvSpPr/>
          <p:nvPr/>
        </p:nvSpPr>
        <p:spPr>
          <a:xfrm>
            <a:off x="4255920" y="5230800"/>
            <a:ext cx="7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99320" y="3357720"/>
            <a:ext cx="61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S4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7380360" y="1844640"/>
            <a:ext cx="906480" cy="21607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637240" y="5286240"/>
            <a:ext cx="433440" cy="936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65960" y="1816200"/>
            <a:ext cx="936720" cy="22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651640" y="1844640"/>
            <a:ext cx="1657080" cy="3384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099120" y="4076280"/>
            <a:ext cx="1209600" cy="11667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ystem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1844640"/>
            <a:ext cx="583236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ite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Im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oftware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port the system configuration( configure fil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Uninstall installed C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Install latest C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Import the system configuration ( configure fil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84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s in 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Roadm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ouble Shoo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duct Roadm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1116000" y="1844640"/>
            <a:ext cx="5832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upports Video Server, IP C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ulti-level users access control ( CM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emote Event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Local/Remote Event Play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Local/Remote Event 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Remote Event Arch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VR Monitoring ( status repor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l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ouble Shoo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1116000" y="1844640"/>
            <a:ext cx="626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How to restart the CMS program when you see the dialogue as below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547640" y="2622600"/>
            <a:ext cx="29512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50960" y="3716280"/>
            <a:ext cx="3809880" cy="2638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16000" y="1844640"/>
            <a:ext cx="71280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wo steps software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heck default p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\CMS\Storage” for Instant Recor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\CMS\Snapshot” for Snapsh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\CMS\Archive” for Remote Arch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722840" y="3716280"/>
            <a:ext cx="3809880" cy="2638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87440" y="638172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Tahoma"/>
              </a:rPr>
              <a:t>Step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19800" y="638172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Tahoma"/>
              </a:rPr>
              <a:t>Step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finitions in Configu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76360" y="3884760"/>
            <a:ext cx="3809880" cy="2535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16000" y="1844640"/>
            <a:ext cx="7128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cc"/>
                </a:solidFill>
                <a:latin typeface="Arial"/>
              </a:rPr>
              <a:t>Group: a set of mixture of DVR, Video Server and IP C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Up to 10 group(s) w/ different configurato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Unique name of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Activation of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70480" y="3859200"/>
            <a:ext cx="233208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finitions in Configu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116000" y="1844640"/>
            <a:ext cx="7128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cc"/>
                </a:solidFill>
                <a:latin typeface="Arial"/>
              </a:rPr>
              <a:t>Site: 4/8/16ch DVR, Video Server and IP C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Up to 64 site(s) in on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Unique name of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03280" y="3313080"/>
            <a:ext cx="4649760" cy="3068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269040" y="3254400"/>
            <a:ext cx="232416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Tahoma"/>
              </a:rPr>
              <a:t>Settings of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te: 790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del: 4ch DV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rt: 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ername: 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assword: 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unctions (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1844640"/>
            <a:ext cx="71280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Group/Sit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/ Rename / Rem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/ Rename / Rem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Users/Connections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s Authent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x. Conn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unctions (I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116000" y="1844640"/>
            <a:ext cx="71280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Basic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ve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nt Recor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te Playback/ Local Playback ( in PC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te Arch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tings of DV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apsh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e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ystem Management ( CM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te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 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roup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780000" y="1989000"/>
          <a:ext cx="380988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989000"/>
                    <a:ext cx="38098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755640" y="3284640"/>
            <a:ext cx="4896000" cy="3255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116000" y="1844640"/>
            <a:ext cx="7128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dd a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ename a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emove a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6300720" y="5157720"/>
            <a:ext cx="2162160" cy="1343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flipH="1">
            <a:off x="3059280" y="2349360"/>
            <a:ext cx="4176720" cy="863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68360" y="3789360"/>
            <a:ext cx="3959280" cy="1440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it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780000" y="1989000"/>
          <a:ext cx="380988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989000"/>
                    <a:ext cx="38098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55640" y="3284640"/>
            <a:ext cx="4896000" cy="3255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116000" y="1844640"/>
            <a:ext cx="7128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dd a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ename a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emove a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084720" y="4653000"/>
            <a:ext cx="2448000" cy="1847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flipH="1">
            <a:off x="3059280" y="2276640"/>
            <a:ext cx="4176720" cy="863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4003560"/>
            <a:ext cx="3598920" cy="1225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0:54:14Z</dcterms:created>
  <dc:creator>eric_chiu</dc:creator>
  <dc:description/>
  <dc:language>en-US</dc:language>
  <cp:lastModifiedBy>Eric_Chiu</cp:lastModifiedBy>
  <dcterms:modified xsi:type="dcterms:W3CDTF">2006-09-26T10:30:40Z</dcterms:modified>
  <cp:revision>149</cp:revision>
  <dc:subject/>
  <dc:title>DynaRemote V.S. Oth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18263892</vt:r8>
  </property>
  <property fmtid="{D5CDD505-2E9C-101B-9397-08002B2CF9AE}" pid="3" name="_AuthorEmail">
    <vt:lpwstr>Tom_Shih@dynacolor.com.tw</vt:lpwstr>
  </property>
  <property fmtid="{D5CDD505-2E9C-101B-9397-08002B2CF9AE}" pid="4" name="_AuthorEmailDisplayName">
    <vt:lpwstr>Tom_Shih(石棨元)</vt:lpwstr>
  </property>
  <property fmtid="{D5CDD505-2E9C-101B-9397-08002B2CF9AE}" pid="5" name="_EmailSubject">
    <vt:lpwstr>shipping doc</vt:lpwstr>
  </property>
  <property fmtid="{D5CDD505-2E9C-101B-9397-08002B2CF9AE}" pid="6" name="_PreviousAdHocReviewCycleID">
    <vt:r8>-1178190198</vt:r8>
  </property>
</Properties>
</file>